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0370-4996-400F-8454-E2E226CCEC7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n 1998 el Perú y Chile suscribieron el Acuerdo de Complementación Económica N° 3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1995 e</a:t>
            </a: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 Perú y México firmaron el Acuerdo de Complementación Económica N°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Perú se adhirió al ATPA (Ley de Preferencias Arancelarias Andinas) en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lo abrió las puertas de EE.UU. a alrededor de 5,500 productos, que no incluían a los textiles y las confec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Dichas preferencias vencieron en diciembre del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ATPDEA (Ley de Promoción Comercial Andina y Erradicación de la Droga) las renov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Se firmó en agosto del 2002 y entró en vigencia en octubre de ese mismo añ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xtiende las preferencias a las confecciones, entre otros produc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2AD4-4445-485F-A41C-8732B909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75BD-B872-47C3-A82F-FBBAA21B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CC2B-BD99-4EB3-9D5A-3312481F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CA1E-B496-43A5-AAC2-382EC3AC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C8BC-F818-4060-8FDE-0B9947F5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7D38-1374-4FF1-9D45-4A47F714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1773-ED51-47E0-A431-FADADAFD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7D88-8573-4097-BB93-98E9E02A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EFAE-D325-4A39-BC5E-4A81271D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5D16-CBF7-48F9-B93F-D1D9AEF3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9B28-5C21-4A6E-8E13-9E60EECB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B31-BADC-457F-9B89-B801FECA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DD07-1D7B-474F-8F02-CD9B26E2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05CF-FEEA-4A3A-B847-6CAC3E39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8E52-BE89-4DF5-ADE2-8102E7D7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2955-36C9-4AA5-B0BB-F9FD1B9C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304E-761A-440B-89B8-EEF4D996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BD86-418D-444E-9830-C0F3B236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218C-FB22-43DC-AD7D-5266DE1B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95A9-F81F-4789-B10C-82D071A4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5792-ED59-426C-941B-747261AE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437D-67F3-4B55-9875-18CCC49A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C36E-A9D3-4166-8FAB-F710ED56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616E-A59F-4291-B9DB-C5F8D098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E30C-4E99-48E9-8ECD-33CD4048055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4AFE-F206-413A-80AC-E8F48691D474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560" y="620280"/>
            <a:ext cx="720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Conquistando mercados: oportunidades para</a:t>
            </a:r>
            <a:br>
              <a:rPr sz="4000"/>
            </a:b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la agroexportació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Chlimper Ack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4957" r="0" b="0"/>
          <a:stretch/>
        </p:blipFill>
        <p:spPr>
          <a:xfrm>
            <a:off x="609480" y="1798560"/>
            <a:ext cx="763452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4390" r="0" b="0"/>
          <a:stretch/>
        </p:blipFill>
        <p:spPr>
          <a:xfrm>
            <a:off x="380880" y="1660680"/>
            <a:ext cx="79362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5150" r="0" b="0"/>
          <a:stretch/>
        </p:blipFill>
        <p:spPr>
          <a:xfrm>
            <a:off x="685800" y="1844640"/>
            <a:ext cx="760896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4037" r="0" b="0"/>
          <a:stretch/>
        </p:blipFill>
        <p:spPr>
          <a:xfrm>
            <a:off x="533520" y="1668600"/>
            <a:ext cx="80071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1224000"/>
            <a:ext cx="78469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0643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560" y="620280"/>
            <a:ext cx="720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Conquistando mercados: oportunidades para</a:t>
            </a:r>
            <a:br>
              <a:rPr sz="4000"/>
            </a:b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la agroexportació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Chlimper Ack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Desarrollo de mercado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evos merc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evos nich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33370" b="11189"/>
          <a:stretch/>
        </p:blipFill>
        <p:spPr>
          <a:xfrm>
            <a:off x="611280" y="2421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18888" t="8382" r="35419" b="28609"/>
          <a:stretch/>
        </p:blipFill>
        <p:spPr>
          <a:xfrm>
            <a:off x="4788000" y="2421000"/>
            <a:ext cx="2089080" cy="2160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12804" t="10676" r="26419" b="8232"/>
          <a:stretch/>
        </p:blipFill>
        <p:spPr>
          <a:xfrm>
            <a:off x="2268360" y="2924280"/>
            <a:ext cx="2014560" cy="20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rcRect l="0" t="0" r="28971" b="5296"/>
          <a:stretch/>
        </p:blipFill>
        <p:spPr>
          <a:xfrm>
            <a:off x="1187280" y="407664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6516720" y="2997360"/>
            <a:ext cx="2087640" cy="202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rcRect l="0" t="6711" r="0" b="0"/>
          <a:stretch/>
        </p:blipFill>
        <p:spPr>
          <a:xfrm>
            <a:off x="5796000" y="4076640"/>
            <a:ext cx="20890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café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981000"/>
            <a:ext cx="586728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0" t="5169" r="0" b="0"/>
          <a:stretch/>
        </p:blipFill>
        <p:spPr>
          <a:xfrm>
            <a:off x="304920" y="1576440"/>
            <a:ext cx="7772400" cy="5067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café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360360"/>
            <a:ext cx="793116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8000"/>
                </a:solidFill>
                <a:latin typeface="Arial Black"/>
              </a:rPr>
              <a:t>Nuevos mercados: espárragos frescos o refrigerados</a:t>
            </a: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4920" y="1335240"/>
            <a:ext cx="70866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5640" y="582480"/>
            <a:ext cx="86770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espárragos frescos o refrigerado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90720" y="1641600"/>
            <a:ext cx="70102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uva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1068480"/>
            <a:ext cx="64008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uva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79250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 Black"/>
              </a:rPr>
              <a:t>Poca cama, poco plato, </a:t>
            </a:r>
            <a:br>
              <a:rPr sz="3500"/>
            </a:br>
            <a:r>
              <a:rPr b="0" lang="es-ES_tradnl" sz="3500" spc="-1" strike="noStrike">
                <a:solidFill>
                  <a:srgbClr val="000000"/>
                </a:solidFill>
                <a:latin typeface="Arial Black"/>
              </a:rPr>
              <a:t>mucho zapato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5:26:53Z</dcterms:created>
  <dc:creator>jore</dc:creator>
  <dc:description/>
  <dc:language>en-US</dc:language>
  <cp:lastModifiedBy>jore</cp:lastModifiedBy>
  <dcterms:modified xsi:type="dcterms:W3CDTF">2005-04-29T20:17:19Z</dcterms:modified>
  <cp:revision>24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961498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pts</vt:lpwstr>
  </property>
  <property fmtid="{D5CDD505-2E9C-101B-9397-08002B2CF9AE}" pid="6" name="_PreviousAdHocReviewCycleID">
    <vt:r8>-434339299</vt:r8>
  </property>
</Properties>
</file>